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57A-53AE-48F5-9B88-B4185171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9CB-F88A-40E8-B87B-AA728388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C43-1AD1-4B88-A710-D62B9264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8DC-2B48-43B9-B731-DF378FD0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DE85-AB3C-4A3A-93F5-EF9BE9EC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B220-E10F-4E98-BC6B-25925F3F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F0B4-12A7-4DD8-86A1-1D298B18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97EA-2B9E-4A95-9D8A-109F7115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609-61E7-4BAE-A5C2-823DDA9E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1D9D-115F-484E-8E0B-93C06539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0C54-A36A-469C-8A78-06360D1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827-D020-449F-8F26-F80D333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28B8-F82F-4F99-9C3E-1BAB86D3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2D94-F345-4B9D-86B4-EAFC5B3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219C-93A0-4E8E-A417-63297ED5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F9A7-58A7-41BE-98C8-E10BC085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DE6D-08E5-4C49-89EB-6429767E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0B4-6BA8-4528-AFF9-FA53AFBA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F3D-5926-4F04-AD43-12530447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D85-C847-465B-8A1A-7C64500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EF4-67E7-4499-98FA-C5A526AA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1C8-D4F5-4A21-857E-8415D021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2AD-8671-4AED-8D84-64DB5423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BE6-1EE4-4E56-BBF2-54426C3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063B-978B-4C92-AE01-FBF331F877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87A0-82F6-4E5A-AED3-5C7729F7A2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OW TO SEARC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ONFICTION BOOK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js libr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626640" y="4005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na Duk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3FE8-2FA4-45CF-9054-D5F043E608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011320" cy="235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157560" cy="40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3116160" cy="403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11960" y="5300640"/>
            <a:ext cx="51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  Who enjoys a good gro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5   When does a tiger cub leave ho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87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 we use a contents pag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13000"/>
            <a:ext cx="27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ble of contents is a list of book chapters in the order they appear in a book with corresponding page numbers. It helps the reader find information about main topics in the book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D64-F611-49CE-9ED0-339703B119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61620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81640" y="33717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ger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boon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789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es an index wor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are the index and contents page diffe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6200" y="90792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x is a list of key words, arranged alphabeticall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BA9-CB63-4FA0-9B8A-686E09DE92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278160" cy="43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47840" cy="432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133720" cy="28130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769-DC8B-45D8-9BDA-77050A218A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x - Gloss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431880" cy="4690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5400" cy="475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9080" y="60357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bernation - 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83664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ossary explains difficult or unusual words used in the tex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992-D4D7-4889-8CDD-DA3327444E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605040" cy="48704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24000" y="5734080"/>
            <a:ext cx="360360" cy="393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3840"/>
              <a:gd name="textAreaBottom" fmla="*/ 370800 h 39384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11802"/>
                </a:moveTo>
                <a:lnTo>
                  <a:pt x="17806" y="4796"/>
                </a:lnTo>
                <a:lnTo>
                  <a:pt x="17806" y="188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4600" y="57484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ck 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FD1-4046-4626-9CC0-B365686FBD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70200" cy="4753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735360" cy="48243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2509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560" y="595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Table of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47240" y="63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96C-F8E7-4188-B349-6F4DC2207D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12:10Z</dcterms:created>
  <dc:creator> Dana</dc:creator>
  <dc:description/>
  <dc:language>en-US</dc:language>
  <cp:lastModifiedBy>Owner</cp:lastModifiedBy>
  <dcterms:modified xsi:type="dcterms:W3CDTF">2009-03-14T03:37:35Z</dcterms:modified>
  <cp:revision>27</cp:revision>
  <dc:subject/>
  <dc:title>Slide 1</dc:title>
</cp:coreProperties>
</file>