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716-92E7-4E34-8A8C-228F9FB2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4A4-A72D-4EE6-891D-A693F17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1E3-FA7E-4D8A-A4FA-8EDDB3DA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D9A-FCB5-4526-9B34-629E92BD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2F7E-B368-468E-99AF-E8EB123B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689-D4AC-4FC6-A839-07C16724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8F92-E6F6-47EA-899C-0C238158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CB9F-6315-44B1-87D8-0B944363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8CAA-E945-415F-8E3D-94FE94B4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DDDE-74CD-4B0B-849E-B79CC7E2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7948-8832-4FF2-A2A7-7D9BD75B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260-3B5D-4BC2-AA06-0EB9542D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395F-49B3-42AE-B4F5-88638C2A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E699-9A49-4DF1-91AB-0863927A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3259-80F0-49F2-B705-79BE9A3D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5CE7-F8D5-4EBE-9CA4-313619EF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91A5-0910-4E8B-AB24-28B8AB4B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542-B12A-4980-822D-F124BA73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28F-35E8-4AB9-B168-CF7AC7FB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CEA-71B0-4830-B5C2-7EF28D51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28C-EC4F-4B15-849F-ADE66017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0C7-CDC6-45AF-AA54-19C49B4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609-D3D1-4A75-8434-4F9C660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CF0-BECE-49CF-8C03-F04FACFF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1BA5-8014-4887-8EBB-F4BDA0A56E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FCCB-E995-4C4F-9FCA-06B26805D8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OW TO SEARC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ONFICTION BOOK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js libr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626640" y="4005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na Duk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AD51-63C8-4404-94BE-E5C30E1DE5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011320" cy="235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157560" cy="40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3116160" cy="403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11960" y="5300640"/>
            <a:ext cx="51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  Who enjoys a good gro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5   When does a tiger cub leave ho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87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 we use a contents pag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13000"/>
            <a:ext cx="27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ble of contents is a list of book chapters in the order they appear in a book with corresponding page numbers. It helps the reader find information about main topics in the book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C59-A546-4CE8-9021-A4284D1388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61620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81640" y="33717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ger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boon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789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es an index wor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are the index and contents page diffe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6200" y="90792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x is a list of key words, arranged alphabeticall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780-4271-4DA3-951D-0AB884C690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278160" cy="43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47840" cy="432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133720" cy="28130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F10-AC61-4FEA-9FA4-FCE9D7BB37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x - Gloss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431880" cy="4690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5400" cy="475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9080" y="60357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bernation - 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83664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ossary explains difficult or unusual words used in the tex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882-DE55-4A34-B72E-CCFACA092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605040" cy="48704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24000" y="5734080"/>
            <a:ext cx="360360" cy="393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3840"/>
              <a:gd name="textAreaBottom" fmla="*/ 370800 h 39384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11802"/>
                </a:moveTo>
                <a:lnTo>
                  <a:pt x="17806" y="4796"/>
                </a:lnTo>
                <a:lnTo>
                  <a:pt x="17806" y="188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4600" y="57484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ck 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33A-FC07-482A-B5F0-66EF871FF5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70200" cy="4753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735360" cy="48243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2509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560" y="595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Table of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47240" y="63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A12-C012-4D3B-8F62-EEF72BA3DD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12:10Z</dcterms:created>
  <dc:creator> Dana</dc:creator>
  <dc:description/>
  <dc:language>en-US</dc:language>
  <cp:lastModifiedBy>Owner</cp:lastModifiedBy>
  <dcterms:modified xsi:type="dcterms:W3CDTF">2009-03-14T03:37:35Z</dcterms:modified>
  <cp:revision>27</cp:revision>
  <dc:subject/>
  <dc:title>Slide 1</dc:title>
</cp:coreProperties>
</file>