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DCE-61B7-4C0C-8E01-C473E458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A94-ADB8-4888-95E7-104C4FEE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BAE-97DE-4622-91F7-9DAF972E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FF7-08FE-4AD2-BF8D-72C33778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0F25-A65D-4660-A93F-2F0A6BFE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7066-2701-4B52-A051-92C9BC8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E869-4271-4014-BB4E-5D918882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FB02-1A31-4C98-B99E-3D6E0752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73F4-C17C-47D8-93D9-E8BD010D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09C2-9ABD-4810-B29D-84D98226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2934-4219-46AA-B2C8-47B183B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259-C509-481C-B0E5-7F1A14A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2F02-79D1-49A8-8078-63EF1136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2C8B-8BE3-4AEF-8EA1-75B11DC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82CF-9CE1-4E8C-A309-D6F2D2A7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9690-0E45-4901-A5BD-94D46F92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E325-4BA3-4AB4-81C1-91D69729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F47-38EF-4987-8D42-1F73535A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45B-1BFE-4D31-AAE3-AA6B0819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547-A571-4276-B3C2-7999F98E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236-23C1-484B-9AEC-BF745694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A91-4542-4BC1-989A-92127E30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EEB-D731-4619-9351-D89F17D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BFB-B85A-4188-8C86-3DAECCAD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E9A5-60C2-4547-B789-41022F8E52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5A68-5F5B-44ED-B68D-6AAA64AAB1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OW TO SEARC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ONFICTION BOOK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js libr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626640" y="400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na Duk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6C9D-CCEE-4297-8D4E-E18679FAEE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11320" cy="235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1575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3116160" cy="403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11960" y="5300640"/>
            <a:ext cx="51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  Who enjoys a good gro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5   When does a tiger cub leave ho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 we use a contents pag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3000"/>
            <a:ext cx="27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ble of contents is a list of book chapters in the order they appear in a book with corresponding page numbers. It helps the reader find information about main topics in the book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844-3DC8-462D-882F-0C2F72F6A6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61620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81640" y="33717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ger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boon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789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es an index wor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are the index and contents page diffe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6200" y="90792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x is a list of key words, arranged alphabeticall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C0D-78D7-47DF-9F82-8D1E7E242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278160" cy="43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47840" cy="432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133720" cy="28130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859-B0E4-46D8-BF9D-C22FF4DFDE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x - 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31880" cy="4690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5400" cy="475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9080" y="60357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bernation -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83664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ssary explains difficult or unusual words used in the tex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844-643B-4F5D-9C01-3A8C9F4285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605040" cy="48704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24000" y="5734080"/>
            <a:ext cx="360360" cy="393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3840"/>
              <a:gd name="textAreaBottom" fmla="*/ 370800 h 39384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11802"/>
                </a:moveTo>
                <a:lnTo>
                  <a:pt x="17806" y="4796"/>
                </a:lnTo>
                <a:lnTo>
                  <a:pt x="17806" y="188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600" y="57484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ck 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016-3830-46C6-A51A-20264E35E5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70200" cy="475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735360" cy="48243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2509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560" y="595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Table of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47240" y="63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8C8-D029-440F-89C6-5877568868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12:10Z</dcterms:created>
  <dc:creator> Dana</dc:creator>
  <dc:description/>
  <dc:language>en-US</dc:language>
  <cp:lastModifiedBy>Owner</cp:lastModifiedBy>
  <dcterms:modified xsi:type="dcterms:W3CDTF">2009-03-14T03:37:35Z</dcterms:modified>
  <cp:revision>27</cp:revision>
  <dc:subject/>
  <dc:title>Slide 1</dc:title>
</cp:coreProperties>
</file>