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E88B-7CD4-496B-B9E8-7DEC8593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7613-A7E4-4E2C-91E4-571000A9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865-C35F-4499-B429-80CAE910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2C5F-4CB1-48F8-8758-63F365A6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11BA-A102-4879-BA89-B233684A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6778-7006-489D-A988-8629DDB1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F095-2B85-414E-9265-53CF9FBF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0BA9-E97C-4181-92BD-EC62B9BA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D0B4-B098-4C94-9E54-FE25E84C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8A8C-66C7-4906-8A26-EE5331AC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8648-1D78-44EE-BE1D-896BAE87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8B6B-72B9-4FF8-B134-7831789C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C355-8633-46F3-8869-7BB10724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4E14-F2FD-4894-B3BD-6E25E648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528B-2AFB-437D-9527-60D9155B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BA66-E98E-4CBC-993D-7F2F3C6F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68F9-8933-44EE-9019-DB747512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EB69-B4F7-40EA-B914-ABD0BF18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7F83-2BA7-4134-9CB9-4D93C2B4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358E-82D6-4C95-B11A-9C55345F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DC33-34B0-4496-8B90-3C4A6D1D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4732-3A6C-46FD-97B4-D314B633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56D9-5EEB-4D75-A802-F23C29E7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1948-7D6B-4A9C-B411-FB8605D5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5ED9-0736-4AA7-9A91-7FE02898D34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2DE4-F55A-4E26-B091-06B31C23992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OW TO SEARCH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NONFICTION BOOK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79736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js libra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626640" y="400536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na Duk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D3F2-BCAD-476D-A824-003984AB99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2011320" cy="2352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700360" y="1052640"/>
            <a:ext cx="3157560" cy="4032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796000" y="1052640"/>
            <a:ext cx="3116160" cy="4032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711960" y="5300640"/>
            <a:ext cx="511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9  Who enjoys a good groo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5   When does a tiger cub leave hom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5877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How do we use a contents page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13000"/>
            <a:ext cx="2700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able of contents is a list of book chapters in the order they appear in a book with corresponding page numbers. It helps the reader find information about main topics in the book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E3C-DDBE-43DA-9945-26DB6E2062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dex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616200" cy="4681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181640" y="3371760"/>
            <a:ext cx="13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ger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aboon 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3789360"/>
            <a:ext cx="25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How does an index work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How are the index and contents page differ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06200" y="907920"/>
            <a:ext cx="57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dex is a list of key words, arranged alphabeticall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1B15-0D3A-478C-B310-6E156EC58D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able of content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example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3278160" cy="4321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796000" y="1700280"/>
            <a:ext cx="3147840" cy="4321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79280" y="1413000"/>
            <a:ext cx="2133720" cy="281304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4521-33F6-4559-A505-EA00C87C1C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ex - Gloss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431880" cy="4690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605400" cy="4751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99080" y="603576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ibernation - 7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836640"/>
            <a:ext cx="426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lossary explains difficult or unusual words used in the tex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25E6-9D3F-4645-B0BC-E52A925D3F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om the bo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843280" y="1052640"/>
            <a:ext cx="3605040" cy="487044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324000" y="5734080"/>
            <a:ext cx="360360" cy="3938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93840"/>
              <a:gd name="textAreaBottom" fmla="*/ 370800 h 393840"/>
            </a:gdLst>
            <a:ahLst/>
            <a:rect l="textAreaLeft" t="textAreaTop" r="textAreaRight" b="textAreaBottom"/>
            <a:pathLst>
              <a:path w="21600" h="23605">
                <a:moveTo>
                  <a:pt x="0" y="0"/>
                </a:moveTo>
                <a:lnTo>
                  <a:pt x="21600" y="0"/>
                </a:lnTo>
                <a:lnTo>
                  <a:pt x="21600" y="23605"/>
                </a:lnTo>
                <a:lnTo>
                  <a:pt x="0" y="23605"/>
                </a:lnTo>
                <a:close/>
              </a:path>
              <a:path fill="lightenLess" w="21600" h="23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05">
                <a:moveTo>
                  <a:pt x="21600" y="0"/>
                </a:moveTo>
                <a:lnTo>
                  <a:pt x="21600" y="23605"/>
                </a:lnTo>
                <a:lnTo>
                  <a:pt x="20200" y="22205"/>
                </a:lnTo>
                <a:lnTo>
                  <a:pt x="20200" y="1400"/>
                </a:lnTo>
                <a:close/>
              </a:path>
              <a:path fill="darkenLess" w="21600" h="23605">
                <a:moveTo>
                  <a:pt x="21600" y="23605"/>
                </a:moveTo>
                <a:lnTo>
                  <a:pt x="0" y="23605"/>
                </a:lnTo>
                <a:lnTo>
                  <a:pt x="1400" y="22205"/>
                </a:lnTo>
                <a:lnTo>
                  <a:pt x="20200" y="22205"/>
                </a:lnTo>
                <a:close/>
              </a:path>
              <a:path fill="lighten" w="21600" h="23605">
                <a:moveTo>
                  <a:pt x="0" y="23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05"/>
                </a:lnTo>
                <a:close/>
              </a:path>
              <a:path fill="darken" w="21600" h="23605">
                <a:moveTo>
                  <a:pt x="3794" y="11802"/>
                </a:moveTo>
                <a:lnTo>
                  <a:pt x="17806" y="4796"/>
                </a:lnTo>
                <a:lnTo>
                  <a:pt x="17806" y="1880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4600" y="574848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ack to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6EFD-83A7-4E85-8605-E60A72D1B9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om the bo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3670200" cy="4753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3735360" cy="482436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250920" y="5877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1560" y="595008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Table of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4764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47240" y="630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C2AF-687E-454E-A5B7-CD71E652B1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1:12:10Z</dcterms:created>
  <dc:creator> Dana</dc:creator>
  <dc:description/>
  <dc:language>en-US</dc:language>
  <cp:lastModifiedBy>Owner</cp:lastModifiedBy>
  <dcterms:modified xsi:type="dcterms:W3CDTF">2009-03-14T03:37:35Z</dcterms:modified>
  <cp:revision>27</cp:revision>
  <dc:subject/>
  <dc:title>Slide 1</dc:title>
</cp:coreProperties>
</file>