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E74E-33DD-4B0F-B5AF-74110682F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2723-24AD-4EE7-BB96-ED655BF8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43FA-2D81-44F5-9759-9DB6EB2D0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37BE-A6CD-41F9-BFA3-CA9CC06CA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0695-D28A-4840-A45F-00AB4B030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D986-5A3D-413D-AC07-58D13D8B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F6B7-307A-40F0-B557-B7B36169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9771-72E7-44D8-A372-3E09DD7E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E958-BDEE-4F8E-B462-08B21934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30DD-05A1-418C-9176-8A87903B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9091-443C-4674-95D9-894CED90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BB97-0A75-4EF8-A6A3-E47BFC2F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C09F-CDF5-4255-9B80-9288C9FA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2992-658D-4535-A970-6B6863C7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4E3F-7ECC-4411-8E35-F56A35B5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34BC-3EEF-4C4D-8D4B-33E8E3D6A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6EFF-8410-4856-8EB5-C8CCC7CDE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F715-A480-4C68-895C-BA8F938B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A81B-A700-48D5-A569-33A250EF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E0A0-DAC6-451F-8534-0F873D8E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82D8-529C-4841-90D9-49C9A29F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94F7-9984-418A-A34D-66335E69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440C-84DC-45C3-A8A2-883E2C76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2871-DE4A-4A05-AF19-16787DFA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28F3-A068-41F6-8C9E-EB75D8D72C2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9087-C2F1-4738-BD63-818132D230F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HOW TO SEARCH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NONFICTION BOOK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32000" y="479736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js librar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3626640" y="4005360"/>
            <a:ext cx="18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ana Duk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084D-8493-4A78-A414-40745C74DE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2011320" cy="2352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700360" y="1052640"/>
            <a:ext cx="3157560" cy="4032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796000" y="1052640"/>
            <a:ext cx="3116160" cy="4032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711960" y="5300640"/>
            <a:ext cx="511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9  Who enjoys a good groo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5   When does a tiger cub leave hom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250920" y="11592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10800" y="4710"/>
                </a:moveTo>
                <a:lnTo>
                  <a:pt x="13376" y="7321"/>
                </a:ln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lnTo>
                  <a:pt x="17763" y="11673"/>
                </a:lnTo>
                <a:lnTo>
                  <a:pt x="16109" y="11673"/>
                </a:lnTo>
                <a:lnTo>
                  <a:pt x="16109" y="18862"/>
                </a:lnTo>
                <a:lnTo>
                  <a:pt x="5491" y="18862"/>
                </a:lnTo>
                <a:lnTo>
                  <a:pt x="5491" y="11673"/>
                </a:lnTo>
                <a:lnTo>
                  <a:pt x="3837" y="11673"/>
                </a:lnTo>
                <a:close/>
              </a:path>
              <a:path fill="darkenLess" w="21600" h="23346">
                <a:moveTo>
                  <a:pt x="13376" y="7321"/>
                </a:move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close/>
              </a:path>
              <a:path fill="darkenLess" w="21600" h="23346">
                <a:moveTo>
                  <a:pt x="9877" y="15172"/>
                </a:moveTo>
                <a:lnTo>
                  <a:pt x="11723" y="15172"/>
                </a:lnTo>
                <a:lnTo>
                  <a:pt x="11723" y="18862"/>
                </a:lnTo>
                <a:lnTo>
                  <a:pt x="16109" y="18862"/>
                </a:lnTo>
                <a:lnTo>
                  <a:pt x="16109" y="11673"/>
                </a:lnTo>
                <a:lnTo>
                  <a:pt x="5491" y="11673"/>
                </a:lnTo>
                <a:lnTo>
                  <a:pt x="5491" y="18862"/>
                </a:lnTo>
                <a:lnTo>
                  <a:pt x="9877" y="18862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71640" y="587700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How do we use a contents page?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213000"/>
            <a:ext cx="2700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able of contents is a list of book chapters in the order they appear in a book with corresponding page numbers. It helps the reader find information about main topics in the book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F29D-189D-4932-A4D2-9DBDBE00FB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ndex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3616200" cy="4681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181640" y="3371760"/>
            <a:ext cx="13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iger  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aboon 2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250920" y="11592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10800" y="4710"/>
                </a:moveTo>
                <a:lnTo>
                  <a:pt x="13376" y="7321"/>
                </a:ln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lnTo>
                  <a:pt x="17763" y="11673"/>
                </a:lnTo>
                <a:lnTo>
                  <a:pt x="16109" y="11673"/>
                </a:lnTo>
                <a:lnTo>
                  <a:pt x="16109" y="18862"/>
                </a:lnTo>
                <a:lnTo>
                  <a:pt x="5491" y="18862"/>
                </a:lnTo>
                <a:lnTo>
                  <a:pt x="5491" y="11673"/>
                </a:lnTo>
                <a:lnTo>
                  <a:pt x="3837" y="11673"/>
                </a:lnTo>
                <a:close/>
              </a:path>
              <a:path fill="darkenLess" w="21600" h="23346">
                <a:moveTo>
                  <a:pt x="13376" y="7321"/>
                </a:move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close/>
              </a:path>
              <a:path fill="darkenLess" w="21600" h="23346">
                <a:moveTo>
                  <a:pt x="9877" y="15172"/>
                </a:moveTo>
                <a:lnTo>
                  <a:pt x="11723" y="15172"/>
                </a:lnTo>
                <a:lnTo>
                  <a:pt x="11723" y="18862"/>
                </a:lnTo>
                <a:lnTo>
                  <a:pt x="16109" y="18862"/>
                </a:lnTo>
                <a:lnTo>
                  <a:pt x="16109" y="11673"/>
                </a:lnTo>
                <a:lnTo>
                  <a:pt x="5491" y="11673"/>
                </a:lnTo>
                <a:lnTo>
                  <a:pt x="5491" y="18862"/>
                </a:lnTo>
                <a:lnTo>
                  <a:pt x="9877" y="18862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3789360"/>
            <a:ext cx="252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How does an index work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How are the index and contents page differ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06200" y="907920"/>
            <a:ext cx="57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dex is a list of key words, arranged alphabetically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45C4-36BD-488E-8965-BB404FE7AC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able of contents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other example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56000" y="1700280"/>
            <a:ext cx="3278160" cy="4321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796000" y="1700280"/>
            <a:ext cx="3147840" cy="4321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179280" y="1413000"/>
            <a:ext cx="2133720" cy="2813040"/>
          </a:xfrm>
          <a:prstGeom prst="rect">
            <a:avLst/>
          </a:prstGeom>
          <a:ln w="0">
            <a:noFill/>
          </a:ln>
        </p:spPr>
      </p:pic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250920" y="11592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10800" y="4710"/>
                </a:moveTo>
                <a:lnTo>
                  <a:pt x="13376" y="7321"/>
                </a:ln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lnTo>
                  <a:pt x="17763" y="11673"/>
                </a:lnTo>
                <a:lnTo>
                  <a:pt x="16109" y="11673"/>
                </a:lnTo>
                <a:lnTo>
                  <a:pt x="16109" y="18862"/>
                </a:lnTo>
                <a:lnTo>
                  <a:pt x="5491" y="18862"/>
                </a:lnTo>
                <a:lnTo>
                  <a:pt x="5491" y="11673"/>
                </a:lnTo>
                <a:lnTo>
                  <a:pt x="3837" y="11673"/>
                </a:lnTo>
                <a:close/>
              </a:path>
              <a:path fill="darkenLess" w="21600" h="23346">
                <a:moveTo>
                  <a:pt x="13376" y="7321"/>
                </a:move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close/>
              </a:path>
              <a:path fill="darkenLess" w="21600" h="23346">
                <a:moveTo>
                  <a:pt x="9877" y="15172"/>
                </a:moveTo>
                <a:lnTo>
                  <a:pt x="11723" y="15172"/>
                </a:lnTo>
                <a:lnTo>
                  <a:pt x="11723" y="18862"/>
                </a:lnTo>
                <a:lnTo>
                  <a:pt x="16109" y="18862"/>
                </a:lnTo>
                <a:lnTo>
                  <a:pt x="16109" y="11673"/>
                </a:lnTo>
                <a:lnTo>
                  <a:pt x="5491" y="11673"/>
                </a:lnTo>
                <a:lnTo>
                  <a:pt x="5491" y="18862"/>
                </a:lnTo>
                <a:lnTo>
                  <a:pt x="9877" y="18862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B46A-89E9-4A86-80EF-D0FFC39550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dex - Gloss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3431880" cy="4690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003640" y="1557360"/>
            <a:ext cx="3605400" cy="4751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099080" y="603576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ibernation - 7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250920" y="11592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10800" y="4710"/>
                </a:moveTo>
                <a:lnTo>
                  <a:pt x="13376" y="7321"/>
                </a:ln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lnTo>
                  <a:pt x="17763" y="11673"/>
                </a:lnTo>
                <a:lnTo>
                  <a:pt x="16109" y="11673"/>
                </a:lnTo>
                <a:lnTo>
                  <a:pt x="16109" y="18862"/>
                </a:lnTo>
                <a:lnTo>
                  <a:pt x="5491" y="18862"/>
                </a:lnTo>
                <a:lnTo>
                  <a:pt x="5491" y="11673"/>
                </a:lnTo>
                <a:lnTo>
                  <a:pt x="3837" y="11673"/>
                </a:lnTo>
                <a:close/>
              </a:path>
              <a:path fill="darkenLess" w="21600" h="23346">
                <a:moveTo>
                  <a:pt x="13376" y="7321"/>
                </a:move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close/>
              </a:path>
              <a:path fill="darkenLess" w="21600" h="23346">
                <a:moveTo>
                  <a:pt x="9877" y="15172"/>
                </a:moveTo>
                <a:lnTo>
                  <a:pt x="11723" y="15172"/>
                </a:lnTo>
                <a:lnTo>
                  <a:pt x="11723" y="18862"/>
                </a:lnTo>
                <a:lnTo>
                  <a:pt x="16109" y="18862"/>
                </a:lnTo>
                <a:lnTo>
                  <a:pt x="16109" y="11673"/>
                </a:lnTo>
                <a:lnTo>
                  <a:pt x="5491" y="11673"/>
                </a:lnTo>
                <a:lnTo>
                  <a:pt x="5491" y="18862"/>
                </a:lnTo>
                <a:lnTo>
                  <a:pt x="9877" y="18862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836640"/>
            <a:ext cx="426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lossary explains difficult or unusual words used in the text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7FE0-2566-46BE-B136-E083936E87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rom the bo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843280" y="1052640"/>
            <a:ext cx="3605040" cy="4870440"/>
          </a:xfrm>
          <a:prstGeom prst="rect">
            <a:avLst/>
          </a:prstGeom>
          <a:ln w="0">
            <a:noFill/>
          </a:ln>
        </p:spPr>
      </p:pic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324000" y="5734080"/>
            <a:ext cx="360360" cy="3938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93840"/>
              <a:gd name="textAreaBottom" fmla="*/ 370800 h 393840"/>
            </a:gdLst>
            <a:ahLst/>
            <a:rect l="textAreaLeft" t="textAreaTop" r="textAreaRight" b="textAreaBottom"/>
            <a:pathLst>
              <a:path w="21600" h="23605">
                <a:moveTo>
                  <a:pt x="0" y="0"/>
                </a:moveTo>
                <a:lnTo>
                  <a:pt x="21600" y="0"/>
                </a:lnTo>
                <a:lnTo>
                  <a:pt x="21600" y="23605"/>
                </a:lnTo>
                <a:lnTo>
                  <a:pt x="0" y="23605"/>
                </a:lnTo>
                <a:close/>
              </a:path>
              <a:path fill="lightenLess" w="21600" h="236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05">
                <a:moveTo>
                  <a:pt x="21600" y="0"/>
                </a:moveTo>
                <a:lnTo>
                  <a:pt x="21600" y="23605"/>
                </a:lnTo>
                <a:lnTo>
                  <a:pt x="20200" y="22205"/>
                </a:lnTo>
                <a:lnTo>
                  <a:pt x="20200" y="1400"/>
                </a:lnTo>
                <a:close/>
              </a:path>
              <a:path fill="darkenLess" w="21600" h="23605">
                <a:moveTo>
                  <a:pt x="21600" y="23605"/>
                </a:moveTo>
                <a:lnTo>
                  <a:pt x="0" y="23605"/>
                </a:lnTo>
                <a:lnTo>
                  <a:pt x="1400" y="22205"/>
                </a:lnTo>
                <a:lnTo>
                  <a:pt x="20200" y="22205"/>
                </a:lnTo>
                <a:close/>
              </a:path>
              <a:path fill="lighten" w="21600" h="23605">
                <a:moveTo>
                  <a:pt x="0" y="236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05"/>
                </a:lnTo>
                <a:close/>
              </a:path>
              <a:path fill="darken" w="21600" h="23605">
                <a:moveTo>
                  <a:pt x="3794" y="11802"/>
                </a:moveTo>
                <a:lnTo>
                  <a:pt x="17806" y="4796"/>
                </a:lnTo>
                <a:lnTo>
                  <a:pt x="17806" y="1880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firstslide"/>
          </p:cNvPr>
          <p:cNvSpPr/>
          <p:nvPr/>
        </p:nvSpPr>
        <p:spPr>
          <a:xfrm>
            <a:off x="250920" y="11592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10800" y="4710"/>
                </a:moveTo>
                <a:lnTo>
                  <a:pt x="13376" y="7321"/>
                </a:ln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lnTo>
                  <a:pt x="17763" y="11673"/>
                </a:lnTo>
                <a:lnTo>
                  <a:pt x="16109" y="11673"/>
                </a:lnTo>
                <a:lnTo>
                  <a:pt x="16109" y="18862"/>
                </a:lnTo>
                <a:lnTo>
                  <a:pt x="5491" y="18862"/>
                </a:lnTo>
                <a:lnTo>
                  <a:pt x="5491" y="11673"/>
                </a:lnTo>
                <a:lnTo>
                  <a:pt x="3837" y="11673"/>
                </a:lnTo>
                <a:close/>
              </a:path>
              <a:path fill="darkenLess" w="21600" h="23346">
                <a:moveTo>
                  <a:pt x="13376" y="7321"/>
                </a:move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close/>
              </a:path>
              <a:path fill="darkenLess" w="21600" h="23346">
                <a:moveTo>
                  <a:pt x="9877" y="15172"/>
                </a:moveTo>
                <a:lnTo>
                  <a:pt x="11723" y="15172"/>
                </a:lnTo>
                <a:lnTo>
                  <a:pt x="11723" y="18862"/>
                </a:lnTo>
                <a:lnTo>
                  <a:pt x="16109" y="18862"/>
                </a:lnTo>
                <a:lnTo>
                  <a:pt x="16109" y="11673"/>
                </a:lnTo>
                <a:lnTo>
                  <a:pt x="5491" y="11673"/>
                </a:lnTo>
                <a:lnTo>
                  <a:pt x="5491" y="18862"/>
                </a:lnTo>
                <a:lnTo>
                  <a:pt x="9877" y="18862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04600" y="574848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ack to 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4098-4D19-4E46-8AB8-17AF4DFC91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rom the bo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859280" y="1268280"/>
            <a:ext cx="3670200" cy="4753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84360" y="836640"/>
            <a:ext cx="3735360" cy="482436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rId3" action="ppaction://hlinksldjump"/>
          </p:cNvPr>
          <p:cNvSpPr/>
          <p:nvPr/>
        </p:nvSpPr>
        <p:spPr>
          <a:xfrm>
            <a:off x="250920" y="5877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>
            <a:hlinkClick r:id="" action="ppaction://hlinkshowjump?jump=firstslide"/>
          </p:cNvPr>
          <p:cNvSpPr/>
          <p:nvPr/>
        </p:nvSpPr>
        <p:spPr>
          <a:xfrm>
            <a:off x="250920" y="11592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10800" y="4710"/>
                </a:moveTo>
                <a:lnTo>
                  <a:pt x="13376" y="7321"/>
                </a:ln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lnTo>
                  <a:pt x="17763" y="11673"/>
                </a:lnTo>
                <a:lnTo>
                  <a:pt x="16109" y="11673"/>
                </a:lnTo>
                <a:lnTo>
                  <a:pt x="16109" y="18862"/>
                </a:lnTo>
                <a:lnTo>
                  <a:pt x="5491" y="18862"/>
                </a:lnTo>
                <a:lnTo>
                  <a:pt x="5491" y="11673"/>
                </a:lnTo>
                <a:lnTo>
                  <a:pt x="3837" y="11673"/>
                </a:lnTo>
                <a:close/>
              </a:path>
              <a:path fill="darkenLess" w="21600" h="23346">
                <a:moveTo>
                  <a:pt x="13376" y="7321"/>
                </a:move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close/>
              </a:path>
              <a:path fill="darkenLess" w="21600" h="23346">
                <a:moveTo>
                  <a:pt x="9877" y="15172"/>
                </a:moveTo>
                <a:lnTo>
                  <a:pt x="11723" y="15172"/>
                </a:lnTo>
                <a:lnTo>
                  <a:pt x="11723" y="18862"/>
                </a:lnTo>
                <a:lnTo>
                  <a:pt x="16109" y="18862"/>
                </a:lnTo>
                <a:lnTo>
                  <a:pt x="16109" y="11673"/>
                </a:lnTo>
                <a:lnTo>
                  <a:pt x="5491" y="11673"/>
                </a:lnTo>
                <a:lnTo>
                  <a:pt x="5491" y="18862"/>
                </a:lnTo>
                <a:lnTo>
                  <a:pt x="9877" y="18862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1560" y="5950080"/>
            <a:ext cx="23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Table of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4764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47240" y="63086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5DD8-D6FB-4708-8A00-D97E69623D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1:12:10Z</dcterms:created>
  <dc:creator> Dana</dc:creator>
  <dc:description/>
  <dc:language>en-US</dc:language>
  <cp:lastModifiedBy>Owner</cp:lastModifiedBy>
  <dcterms:modified xsi:type="dcterms:W3CDTF">2009-03-14T03:37:35Z</dcterms:modified>
  <cp:revision>27</cp:revision>
  <dc:subject/>
  <dc:title>Slide 1</dc:title>
</cp:coreProperties>
</file>