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A1C016-2CC1-4F1A-B111-3DD6A3311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17EB8F-E73B-4A4E-92FF-A3C503E6A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AF0448-2C27-4B9A-93C3-77CA8F232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8F4AD9-99CE-4CCB-A065-05D0A9E5C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93F67-A871-4A39-9EC8-6E70FFCFF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3A503-9AA4-4073-80A5-C3079B21A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2E28E-F091-4382-A6BD-55B41EA3A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28DF0-D306-4D83-8F99-9BA74D024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11A93-AD46-42C4-BCF7-6A3F330C5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ADFA6-1332-408D-A1D3-D718AB650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40AA6-B84A-4E8E-9071-1068D31CA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ADBC7E-333F-4A94-9A3A-AE30F1841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1A518-1B56-43CE-953C-C948073A1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A0BBD-814B-4B90-B6DB-002EA3F2D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D6594-22FD-4EED-AD66-1A0C7C0DD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7AC36-B97C-4698-B678-A1AFEA4AD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4F44F-2576-4B4F-951B-88CABB474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E84827-E640-42CD-B72F-5DBDDA1F0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A53802-FB4E-4FDC-A37D-5E913A69D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77C8FB-7439-40EE-984F-473E520F6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6A6D29-CE59-498F-B360-8D56FC442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82CD3D-C50B-4262-8B7B-8C236B378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5B2D9A-7F6A-4B1F-821F-1A0A1303B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68F785-3AA6-4B28-9F5C-AB31EACC4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82C61-31AC-4D69-B480-3C1796AA749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7" name="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65134-77E9-4ADA-A4D9-6D94DD85774E}" type="datetime">
              <a:rPr b="0" lang="en-US" sz="1200" spc="-1" strike="noStrike">
                <a:solidFill>
                  <a:srgbClr val="ffffff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37787-2B53-457D-A7C7-0C0855234340}" type="datetime">
              <a:rPr b="0" lang="en-US" sz="1200" spc="-1" strike="noStrike">
                <a:solidFill>
                  <a:srgbClr val="ffffff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F6FE1-0E97-4098-9007-0FBFEA1B0AE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63" name="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603800" y="2133720"/>
            <a:ext cx="5880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ff66"/>
                </a:solidFill>
                <a:latin typeface="Arial"/>
              </a:rPr>
              <a:t>Searching Encyclopedia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516840" y="4371840"/>
            <a:ext cx="1890720" cy="103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KJS Libra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D.Duki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arching Encyclopedia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5634E4-F45F-4333-AB3C-8A9448B351C7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9650BE3-5A42-4118-9AB8-F8DF306467D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0" y="533160"/>
            <a:ext cx="3657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6ff66"/>
                </a:solidFill>
                <a:latin typeface="Arial"/>
              </a:rPr>
              <a:t>Encyclopedia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80880" y="18284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ccecff"/>
                </a:solidFill>
                <a:latin typeface="Arial"/>
              </a:rPr>
              <a:t>A reference source containing information on a variety of topics</a:t>
            </a:r>
            <a:r>
              <a:rPr b="0" lang="en-US" sz="2000" spc="-1" strike="noStrike">
                <a:solidFill>
                  <a:srgbClr val="ccecff"/>
                </a:solidFill>
                <a:latin typeface="Arial"/>
                <a:ea typeface="Times New Roman"/>
              </a:rPr>
              <a:t>.</a:t>
            </a:r>
            <a:r>
              <a:rPr b="0" lang="en-US" sz="2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4572000" y="3886200"/>
            <a:ext cx="1380960" cy="17683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7543800" y="3657600"/>
            <a:ext cx="1374840" cy="181296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6781680" y="533520"/>
            <a:ext cx="1384560" cy="11970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4"/>
          <a:stretch/>
        </p:blipFill>
        <p:spPr>
          <a:xfrm>
            <a:off x="228600" y="4038480"/>
            <a:ext cx="3505320" cy="166068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4724280" y="2362320"/>
            <a:ext cx="365760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Subject encycloped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ccecff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cusing on a particular discipline such as science or histo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2286000"/>
            <a:ext cx="3657600" cy="15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General encyclopedi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vide basic information on all topic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ually in many volum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5"/>
          <a:stretch/>
        </p:blipFill>
        <p:spPr>
          <a:xfrm>
            <a:off x="6019920" y="4191120"/>
            <a:ext cx="1425600" cy="180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arching Encyclopedi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BBB1F1-5FE3-4AC1-AE07-AEFA16CD5097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3BA6A62-FE1A-4871-B2F3-7A0E379259A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676520" y="30456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6ff66"/>
                </a:solidFill>
                <a:latin typeface="Arial"/>
              </a:rPr>
              <a:t>How are information materials in encyclopedias organized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61760" y="144792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pics are usually arranged in 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alphabetical ord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me encyclopedias are arranged 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by subje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ll encyclopedias have an 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index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t the bac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cyclopedias containing 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more then one volum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have an 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index at the back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of the last volume in the s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ubject encyclopedia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usually have a  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contents pag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 glossa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arching Encyclopedi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166E35-3C7D-4FF2-A9AB-70B0E2E17C3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9D5B8E9-7A1D-40C7-AE68-17266B57B82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81080" y="304560"/>
            <a:ext cx="64771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6ff66"/>
                </a:solidFill>
                <a:latin typeface="Arial"/>
              </a:rPr>
              <a:t>Examp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28600" y="1676520"/>
            <a:ext cx="2617920" cy="358128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2590920" y="2057400"/>
            <a:ext cx="2931840" cy="396252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2596320" y="914400"/>
            <a:ext cx="329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subject encycloped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4495680" y="1828800"/>
            <a:ext cx="2797200" cy="37339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4"/>
          <a:stretch/>
        </p:blipFill>
        <p:spPr>
          <a:xfrm>
            <a:off x="6095880" y="1219320"/>
            <a:ext cx="2813040" cy="3760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arching Encyclopedia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063143-8455-4A12-B506-21E31B45885A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318AD59-3F9F-4577-95A1-8CDA747E823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47920" y="8377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66"/>
                </a:solidFill>
                <a:latin typeface="Arial"/>
              </a:rPr>
              <a:t>How do we search encyclopedias 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523880" y="1904760"/>
            <a:ext cx="701064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rowsing through pa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t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de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arching Encyclopedi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4B1AFE-272A-44A7-BF28-813C5740043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F393593-424A-42ED-84DD-C25CA3141C3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7T01:47:51Z</dcterms:created>
  <dc:creator>Zvjezdana Dukic</dc:creator>
  <dc:description/>
  <dc:language>en-US</dc:language>
  <cp:lastModifiedBy>Dana</cp:lastModifiedBy>
  <dcterms:modified xsi:type="dcterms:W3CDTF">2007-03-26T01:33:27Z</dcterms:modified>
  <cp:revision>71</cp:revision>
  <dc:subject/>
  <dc:title>Printed Information Resources</dc:title>
</cp:coreProperties>
</file>