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2AB3A-B8C1-425A-AAFA-36160E84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33F12-35AD-48A1-8F02-DDFCC4E5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8941-799A-47C4-B8DF-32AB4652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0B560-18A8-4B94-8144-CA738F99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485E-399A-4DBE-BEE8-7F6AB213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B69E-8A0A-4214-8C3C-6E657ABD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1481-DDE7-4DEF-835B-485A38F0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443C-6D19-4EC1-8E98-D3D4D0C3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EEFE-0FDA-4C47-AD94-73CD3383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C47A-7F4E-4694-A573-2194E06D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AB32-134A-4F4E-A557-46B9CDD7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1324-18D0-4485-867D-4FAB5276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8D8E-6C86-4DD0-A66E-AE68DC40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21C4-921C-4EBD-8816-7B713473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513E-27D2-4B56-A243-144B579B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237B-B2DC-4C2F-9F0E-9AEBEFFA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119D-087A-4621-970B-337B679C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FA96D-47D9-4A2E-8181-9BAE0B84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662E-E226-4A7A-B34C-394C6541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5FC8B-23DD-412E-97CB-0101E4D4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003C4-55FA-4BC4-81CE-CA39F621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3717-DE4D-4CAD-86A7-B1F9CAA8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A5B4-07DC-4055-85A3-ACB80A19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6FDF-2729-48B4-A573-9DCFB2B3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FCC4-2DF5-4C7C-8990-DE3222E7DB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3ABC-7D4C-4FFE-908D-7AFFC2E22E7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18D5-B192-42AE-A568-5EDB8BAEC8B5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98CF-93DB-4AF6-95F2-87733C8400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3800" y="2133720"/>
            <a:ext cx="588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Searching Encycloped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16840" y="4371840"/>
            <a:ext cx="1890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JS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.Duk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F5469-C0C3-41B4-ADD9-940FFD9F54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3F7198-8843-4436-B7A7-0217EEA05E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0" y="5331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Encyclopedi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 reference source containing information on a variety of topics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1380960" cy="1768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43800" y="3657600"/>
            <a:ext cx="1374840" cy="1812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781680" y="533520"/>
            <a:ext cx="1384560" cy="1197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28600" y="4038480"/>
            <a:ext cx="3505320" cy="1660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24280" y="2362320"/>
            <a:ext cx="3657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bject encyclop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ing on a particular discipline such as science or his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286000"/>
            <a:ext cx="36576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neral encycloped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basic information on all top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in many volu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142560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B5E8-F4AF-40A1-AEFE-485C851538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29003B-1DC0-4E4E-80E3-FF48034483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How are information materials in encyclopedias organiz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ics are usually arranged i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lphabetical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encyclopedias are arrange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y su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encyclopedias have a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e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the 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yclopedias containing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re then one volu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ve a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ex at the b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last volume in the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ject encycloped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ually have a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ents pag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glo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5E85-AFBE-405A-936D-70D3D3EB07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35A4D1-488E-4CCC-821C-33F5D5C7C8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Examp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61792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2931840" cy="3962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96320" y="91440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ubject encyclop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2797200" cy="3733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095880" y="1219320"/>
            <a:ext cx="2813040" cy="376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FE1C5-20D3-41A7-B2F5-8963DE57555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0997F0-6E79-4FBA-BB8E-DF1F91EF32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How do we search encyclopedia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wsing through p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0322-8FD6-4A8D-BCAC-BE78D942BC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E2BCF4-0580-4F60-907D-CD3DCB5E5E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1:47:51Z</dcterms:created>
  <dc:creator>Zvjezdana Dukic</dc:creator>
  <dc:description/>
  <dc:language>en-US</dc:language>
  <cp:lastModifiedBy>Dana</cp:lastModifiedBy>
  <dcterms:modified xsi:type="dcterms:W3CDTF">2007-03-26T01:33:27Z</dcterms:modified>
  <cp:revision>71</cp:revision>
  <dc:subject/>
  <dc:title>Printed Information Resources</dc:title>
</cp:coreProperties>
</file>